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6E4F-38AA-4F1E-8DA4-6684F7E7C2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9098-7C84-4BC5-BD82-65539BFA98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CEF9-907D-4490-BA84-C559A5A43B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20C3-4260-4701-84BD-504AF4559A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9813-9628-427C-BAA3-C164525778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4536-570D-42D9-A1E1-E578B3C2D7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C5E8-FB92-492B-B436-80939CF3D7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5430-E6FD-4D4C-BCB6-B96DAF4DF9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99AC-58A4-4127-AB91-D28BA81FF7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10A3-47F2-4B9A-8D38-5856AE09AA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8DCA-FBC7-4491-B6EF-3A5616AEB9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E0F-64DB-4896-9A4A-3938DE998E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BADF-3BCE-4FB3-BC91-5ADD857F95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1477-608D-4736-9427-4E33F93C87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E87E-287A-4437-9D5D-CF345111FA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95F6-1DA4-4575-ADE7-674D915DDA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7FB7-9402-448C-AD99-C3CA7F93E9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E1DA-5142-488B-8CE2-BE09445E74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FA4F-562F-42FB-8B0F-01389CEB7D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0BB9-26A8-44F4-8A23-C35A454404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675E-13B8-41EA-98F9-CA6522D17A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823C-2986-47B6-A359-5CBED9174F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644-8CD9-4962-8FF0-D0C5ADC3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117-73E4-45F8-93EF-4D33ACB9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6E6-23C5-43F4-B6A1-AD89E1A6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D97-66E5-49FE-BFEA-1C24DBB0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AA07-80AD-48A3-ACB9-658109F8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F952-7BAD-4674-AA03-265E0047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8A6B-EF56-4D7A-9A5E-CDF0C01D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7949-86E6-4EE9-AB77-ECD15812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1A58-2769-41F5-807D-EE4D12F8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C6DB-76B0-4887-84B6-FDC79212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4BB8-CE1B-43D6-8FF3-FFEB1FC0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41A-3EB9-4405-A6B3-8E890BA4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4531-3678-4E4C-8F2A-299E6E2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9104-622E-4F52-8879-505405F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317A-7B07-4140-A8E3-C365C15C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596-1FDB-4CA2-BA0F-A400CB84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732F-C701-4448-AFF0-88DC4673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6D7-862F-4AA5-8853-E21D5473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823-C8D6-4893-A6C0-8D3619C0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1EE-6EDA-4C16-8FDF-B08B90B8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15E-CF0F-4F74-A104-CE4153DF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E69-9E7A-4789-BC4F-B2E69CDF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808-C9F8-4506-85FE-3149F18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66D-195B-4A25-8396-0DF41472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na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BF62A912-1671-4755-A743-85AD8415B23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352680" cy="19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VC\Desktop\powerpoint\logo_MENDELU_CMYK-2.gif"/>
          <p:cNvPicPr/>
          <p:nvPr/>
        </p:nvPicPr>
        <p:blipFill>
          <a:blip r:embed="rId4"/>
          <a:stretch/>
        </p:blipFill>
        <p:spPr>
          <a:xfrm>
            <a:off x="1285920" y="5072040"/>
            <a:ext cx="141444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B480-3C92-4033-8CC8-38C52D4C14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723400"/>
            <a:ext cx="82072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Analýza aktuální zapojení ČR do konceptu Smart City a Smart Region v souvislosti s novými 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Libor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Stanislav Volč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spravce\Downloads\loga_bila na magente.png"/>
          <p:cNvPicPr/>
          <p:nvPr/>
        </p:nvPicPr>
        <p:blipFill>
          <a:blip r:embed="rId1"/>
          <a:srcRect l="2580" t="9437" r="7451" b="411"/>
          <a:stretch/>
        </p:blipFill>
        <p:spPr>
          <a:xfrm>
            <a:off x="1692360" y="0"/>
            <a:ext cx="3456000" cy="15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148360" y="-27000"/>
            <a:ext cx="4013280" cy="157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36400" y="404640"/>
            <a:ext cx="7225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samosprávných krajů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7" name="picture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0072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2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krajských měst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0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3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SC/R ve výběrovém souboru bývalých okresních a ostatních měst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3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164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4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052640"/>
          <a:ext cx="8569080" cy="5659200"/>
        </p:xfrm>
        <a:graphic>
          <a:graphicData uri="http://schemas.openxmlformats.org/drawingml/2006/table">
            <a:tbl>
              <a:tblPr/>
              <a:tblGrid>
                <a:gridCol w="1800000"/>
                <a:gridCol w="1081080"/>
                <a:gridCol w="1152720"/>
                <a:gridCol w="1224000"/>
                <a:gridCol w="1150920"/>
                <a:gridCol w="104436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vskoslez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so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omou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st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dub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řed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zeň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álovéhrad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morav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lovar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(v %)                                               5/6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1052640"/>
          <a:ext cx="8569080" cy="5742000"/>
        </p:xfrm>
        <a:graphic>
          <a:graphicData uri="http://schemas.openxmlformats.org/drawingml/2006/table">
            <a:tbl>
              <a:tblPr/>
              <a:tblGrid>
                <a:gridCol w="1728720"/>
                <a:gridCol w="992160"/>
                <a:gridCol w="1174680"/>
                <a:gridCol w="1265400"/>
                <a:gridCol w="1133280"/>
                <a:gridCol w="115884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/mě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ra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tředoče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oravskoslez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ři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zeň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ladá Boles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dub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radec Král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itoměř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……</a:t>
                      </a: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řec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ychnov n. Kně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h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(v %)                                               6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- plošná      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36640"/>
          <a:ext cx="9144000" cy="5059440"/>
        </p:xfrm>
        <a:graphic>
          <a:graphicData uri="http://schemas.openxmlformats.org/drawingml/2006/table">
            <a:tbl>
              <a:tblPr/>
              <a:tblGrid>
                <a:gridCol w="514440"/>
                <a:gridCol w="7832520"/>
                <a:gridCol w="797040"/>
              </a:tblGrid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vytvoření jasného strategického rámce implementace konceptu SC/R na úrovni státu v oblastech národního záj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4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národní strategii pro rozvoj konceptu SC/R v hlavních cílových oblastech.  Strategie by měla zahrnovat cíle a přístupy státu v následujících segmentech (prosíme o zatržení  relevantní oblasti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 průmysl 4.0, sdílená ekonomika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75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5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7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tvářet novou strategii, ale odstranit duplicity stávajících strategií definované pro jednotlivé oblasti a zahrnout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730080"/>
          <a:ext cx="9180360" cy="6031080"/>
        </p:xfrm>
        <a:graphic>
          <a:graphicData uri="http://schemas.openxmlformats.org/drawingml/2006/table">
            <a:tbl>
              <a:tblPr/>
              <a:tblGrid>
                <a:gridCol w="473040"/>
                <a:gridCol w="8131320"/>
                <a:gridCol w="576000"/>
              </a:tblGrid>
              <a:tr h="7923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pracování regionálních strategií (v návaznosti na národní strategii, zohledňujících specifika rozvoje území) strategií pro rozvoj konceptu SC/R pro následující segmenty (respondenti zatrhnou relevantní oblasti konceptu SC/R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průmysl 4.0,sdílená ekonomika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2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resortismus ze strany státu, kdy přístup k implementaci konceptu Smart je specifický pro relevantní ministerstva (především MMR, MV, MPSV, MPO, MŽP), vytvořit jednotnou pracovní skupinu, nabízí se využití některé z existujících „Rad vlády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ně vymezit kompetence a odpovědnosti (odstranění resortismu ministerstev) za naplňování národní strategie + nezávislá expertní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dotační tituly pro podporu implementace konceptu SC/R v souladu se strategií ČR (jasně definovaná kritéria pro využití moderních technologi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tručnou a jasnou metodiku vztahující se ke způsobům čerpání prostředků pro realizaci národní strategie ve vymezených oblas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- plošná       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– plošná      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836640"/>
          <a:ext cx="9144000" cy="5878440"/>
        </p:xfrm>
        <a:graphic>
          <a:graphicData uri="http://schemas.openxmlformats.org/drawingml/2006/table">
            <a:tbl>
              <a:tblPr/>
              <a:tblGrid>
                <a:gridCol w="468360"/>
                <a:gridCol w="7864560"/>
                <a:gridCol w="811080"/>
              </a:tblGrid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voj jednotné komunikační platformy a sdílení informací  (například MMR ve spolupráci se Svazem měst a obcí a dalšími iniciativami) s možností osobního kontaktu (expertního poradenství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kytovat informace o podmínkách realizace národní strategie SC/R -poskytování poradenského servisu -  možnost osobního kontaktu a konkrétního expertního poradenství pro specifické podmínky obce/regio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ále podporovat možnost  seznámit  se s příklady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3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 pro kategorii „menších měst“ především v rámci Č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42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 pro „větší města“ jak v rámci ČR, tak i v zahranič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110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a zajistit aktualizaci zásobníku/databáze ověřených řešení pro jednotlivé oblasti implementace konceptu SC/R a firem, které řešení úspěšně realizoval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racovat jednoduchou metodickou pomůcku (motivační, iniciační charak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it se na implementaci konceptu SC/R na státní úrovni, tzn. vytvořit „Smart stát“,  a to především pro oblast státní správy (ID občanů, ITC a efektivní výkon státní správ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osvětu a 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lovat povědomí o konceptu Smart prostřednictvím osvětové činnosti, PR (propagace) konceptu SC/R ze strany stá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vzdělávání v oblasti SC/R (cílová skupina děti  - ZŠ; SŠ, odborníci na VŠ, celoživotní vzděláván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-25560" y="836640"/>
          <a:ext cx="9144000" cy="4832280"/>
        </p:xfrm>
        <a:graphic>
          <a:graphicData uri="http://schemas.openxmlformats.org/drawingml/2006/table">
            <a:tbl>
              <a:tblPr/>
              <a:tblGrid>
                <a:gridCol w="684360"/>
                <a:gridCol w="7920000"/>
                <a:gridCol w="539640"/>
              </a:tblGrid>
              <a:tr h="5349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t v podpoře strategického plánování implementace konceptu SC/R na úrovni menších obcí (poradenství,lidské zdroje,finanční zdro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69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zapojení úředníků krajů/měst do jednotlivých fází implementace konceptu SC/R umožněním jejich finančního ohodnocení nad rámec stávajícího odměňování (např. dohody o provedení práce, při zapojení do projektů možnost získat úvazek větší než 1,0…atd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možnosti stínování úředníků v případě zájmu o podrobné seznámení se s příkladem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8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kvalitní projektovou přípravu a zadávací dokumentaci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at kvalitní projektovou přípravu investičních akc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85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oradenskou platformu pro spolupráci na zadávací dokumentaci pro proje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0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ě podporovat implementaci konceptu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 rámci investičních dotačních titulů (jak na národní, tak i regionální úrovni) nastavit podmínky tak, aby využití těchto zdrojů financování umožňovalo „Smart řešení“ v souladu s národní/regionální strategií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vhodné programy a zjednodušit pravidla čerpání finančních zdrojů z Evropských fon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6640"/>
          <a:ext cx="9144000" cy="549900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fond pro financování pilotních projektů SC/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0447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ání pilotních projektů  (sdílení rizika, vhodný pro větší města)(jednoduchá a dynamická pravidla pro hodnocení projektů bez ohledu na oblast - kritéria hodnocení podle výsledných efektů projektů, připustit neúspěšnost projektu, výběr za pomocí expertní skupiny nebo referen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ystém inovačních voucherů pro podporu rozvoje těch Smart řešení, která jsou v souladu s národní/regionální strategií rozvoje konceptu SC/R (využitelný pro menší města, volnost ve výběru oblastí implementac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a jasně vymezit jasná pravidla a metodiku pro využívání PPP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legislativní barié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ést revizi (pro potřebu snazší implementace konceptu SC/R) zákona o veřejných zakázk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zapracování "prvků Smart technologií" (které zvyšují cenu a nejsou definovány nebo definovatelné v cenících) do projektů revitalizací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ředpoklady pro preferenci zapojení místních firem do implementace konceptu SC/R či firem, které realizovaly předcházející etapu úspěšných řešení (omezit napadání a nekalou konkuren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žadovat podmínku otevřených řešení umožňujících kompatibilitu navazujících modulárních projektů financovaných z veřejn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32c92"/>
                </a:solidFill>
                <a:latin typeface="Arial"/>
              </a:rPr>
              <a:t>Osnova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Cíl  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Metodický postup řešení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Vyhodnocení procesu implementace konceptu Smart City/Smart 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Doporučení na podporu implementace konceptu Smart City/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836640"/>
          <a:ext cx="9144000" cy="138276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istit, aby legislativa držela krok s technologickým pokrokem (např. definovat požadavky na autonomní dopravu a podobn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formy soudně uznatelných dokumentů pro archivaci (mohou být v elektronické podob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minimální standardy Smart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mbria"/>
              </a:rPr>
              <a:t>Děkujeme za pozornost</a:t>
            </a:r>
            <a:endParaRPr b="1" lang="en-US" sz="32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íl projektu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77336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05050"/>
                </a:solidFill>
                <a:latin typeface="Arial"/>
              </a:rPr>
              <a:t>Cílem projektu bylo zmapovat aktuální stav a míru zapojení jednotlivých krajů, krajských měst a bývalých okresních měst do konceptu Smart City/Smart Region, zmapovat úroveň procesu implementace tohoto konceptu, názorů na potřebu jeho podpory a dle zjištění následně navrhnout vhodná opatření, jak jejich intenzitu zapojení do tohoto konceptu zvýšit. </a:t>
            </a: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1/5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1295280"/>
            <a:ext cx="7499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imární šetření bylo koncipováno tak, aby umožňovalo získat informace využitelné pro komplexní mapování a komparaci úrovně implementace konceptu strategického řízení SC/R, participace, motivace, bariér, síťování, role vlády a potřeb podpory zvýšení míry implementace SC/R .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Kritéria a stupnice pro hodnocení míry zapojení měst/krajů do konceptu SC/R vychází z konceptu analýzy Demingova cyklu (PDCA), který je využíván pro evaluaci cyklu neustálého zlepšování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Rámec evaluace implementace konceptu SC/R sestával ze 48 hierarchicky uspořádaných komponent/kritérií, které byly rozděleny na 4 na sebe navazující vyšší celky procesu PDCA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Metodika byla upravena podle standardů ETSI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 úvodním dopise byl stručně objasněn mandát, účel a předmět výzkumu s žádostí o úča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87280" y="1486080"/>
            <a:ext cx="7499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em bylo kontaktováno 13 zástupců Krajských úřadů, zástupci hlavního města Prahy, 13 zástupců krajských měst a 55 zástupců bývalých okresních a dalších mě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ě byli zástupci krajských úřadů a měst opět kontaktováni telefonicky, kdy byl dojednán konkrétní termín schůzky a kontaktní osoby pověřené vedením města. V této iniciační fázi se  5 zástupců měst odmítlo z různých důvodů výzkumu zúčastnit  (9 %). Také se nepodařilo realizovat setkání se zástupci Jihomoravského kraje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 každý kraj/město zahrnuté do výzkumu byla provedena ex ante analytická příprava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7280" y="1267920"/>
            <a:ext cx="7499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imární úroveň mapování a hodnocení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Semi-strukturované rozhovor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é expertní hodnocení procesu implementace konceptu SC/R s využitím analýzy PDCA cyklu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ýsledky rozhovoru byly spolu s výsledky analytické přípravné fáze zpracovány prostřednictvím kódování standardizovaných odpovědí do databáze výsledků šetření - „Karta města“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zory a náměty představitelů krajů/měst pro podporu implementace konceptu SC/R shromážděné prostřednictvím řízených rozhovorů byly následně kategorizovány a sumarizován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ový přehled navrhovaných opatření byl elektronicky zaslán k vyjádření všem představitelům krajů/měst, kteří se účastnili výzkumu + verifikace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87280" y="141300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Sekundární úroveň - Expertní mapování procesu implementace konceptu Smart City/Region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zhledem k srovnatelné významnosti jednotlivých fází cyklu PDCA, která byla potvrzena výsledky expertního hodnocení metodou AHP byla v první úrovni hierarchické struktury přiřazena stejná váha 0,25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tože druhá úroveň hierarchické struktury využívá rozsáhlého souboru sub-kritérií, jejichž počet je pro jednotlivé fáze PDCA rozdílný, byla pro komplexní MCA hodnocení využita metoda postupného rozvrhu vah na základě alokace bodového hodnocení významnosti kritéria. 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91628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á váha byla získána jako výsledek participativního hodnocení v expertní skupině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o dosažení srovnatelnosti významnosti souboru kritérií, byly váhy sub kritérií následně normovány tak, aby jejich součet byl roven celkové hodnotě kritéria na vyšší hierarchické úrovni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é skóre bylo zjišťováno na základě normovaných hodnot výsledné databáze výsledků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13880" y="9669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em verifikovaná standardizovaná databáze odpovědí - matice (75 záznamů x 35 údajů), tj. 2625 zpracovaných údajů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1979640" y="2519280"/>
            <a:ext cx="5400720" cy="40784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1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Pavla Soukopová</dc:creator>
  <dc:description/>
  <dc:language>en-US</dc:language>
  <cp:lastModifiedBy>Libor Grega</cp:lastModifiedBy>
  <dcterms:modified xsi:type="dcterms:W3CDTF">2019-03-22T12:27:34Z</dcterms:modified>
  <cp:revision>119</cp:revision>
  <dc:subject/>
  <dc:title>Snímek 1</dc:title>
</cp:coreProperties>
</file>